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233-495D-497C-87D0-76679671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275-78E5-47C3-85DE-AC37AD0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59F-81AA-4525-8D0F-C878C1F1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97E-483C-44F1-91DA-25950443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565-7843-45BF-BC22-201C104B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6F3-0059-4A26-856D-BE0858E9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0BD-6121-4B32-885D-7D98CC36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DC3-6BC7-4B78-9FC6-15D65C0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192-3E58-46A0-B8D8-BA13495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E37-A042-498C-A2F2-A2311DBB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671-F9C8-4146-9293-AEADC3C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ABD-3FF4-46FC-9896-B2464A0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723-177D-4478-9A20-A7126160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xamples of How the Blitz Will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106668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2971800" cy="24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3047760" cy="247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4120" y="4038480"/>
            <a:ext cx="281916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295280" y="1447920"/>
            <a:ext cx="2895840" cy="240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620600">
            <a:off x="1216080" y="1598400"/>
            <a:ext cx="55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447920"/>
            <a:ext cx="2210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--1 LLI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-- 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60020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343400"/>
            <a:ext cx="2590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--1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19112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3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30-10: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2274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:45-11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f There Are Five Classro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743200"/>
            <a:ext cx="220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—1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2514600"/>
            <a:ext cx="13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:45-12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12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dding the additional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34704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tz Big Id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ildren are engaged in reading work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adult is working in a classroom—share responsibility for student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development model for teachers on conferencing, guided reading, independent reading and writing about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5:56:54Z</dcterms:created>
  <dc:creator>Lawrence</dc:creator>
  <dc:description/>
  <dc:language>en-US</dc:language>
  <cp:lastModifiedBy>Lawrence</cp:lastModifiedBy>
  <dcterms:modified xsi:type="dcterms:W3CDTF">2009-08-16T19:29:10Z</dcterms:modified>
  <cp:revision>4</cp:revision>
  <dc:subject/>
  <dc:title>Examples of How the Blitz Will Work</dc:title>
</cp:coreProperties>
</file>